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AB2-C6C9-478D-8FA4-87964AA8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87F-1C0E-4A30-BA4C-75348240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EE7-76A0-401E-A3E1-D1C4414C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6B4-D721-422B-9502-C9E8B894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1BC-4890-498E-BED9-6A57D646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0B7-7B0A-466F-87DA-08AB0151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57F-3D24-4316-83BD-91516D83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BC6-79FB-4603-BD6F-DB2F9A1C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E65-2F95-4209-ADEE-6AC527FD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AE9-BE7F-4A49-9C94-DCA82899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EC8-CE9D-4F71-A496-40A4616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E34-01FD-416A-9FFB-E1BB23F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D9A9-B938-430E-A736-3D2B29DD03A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20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ntenu d’un journal :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rubr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852280"/>
            <a:ext cx="662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un journal, qui est souvent long à lire, les informations sont classées par thèmes, de différentes manières, de façon à ce que le lecteur puisse se repérer faci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sport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port en question se reconnaî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la pho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 au surti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Quelques brèves, en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rubr sport monde"/>
          <p:cNvPicPr/>
          <p:nvPr/>
        </p:nvPicPr>
        <p:blipFill>
          <a:blip r:embed="rId1"/>
          <a:stretch/>
        </p:blipFill>
        <p:spPr>
          <a:xfrm>
            <a:off x="309600" y="307800"/>
            <a:ext cx="4176720" cy="63010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 flipV="1">
            <a:off x="1603080" y="441000"/>
            <a:ext cx="320508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 flipV="1">
            <a:off x="860040" y="1739520"/>
            <a:ext cx="393372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293640" y="2263680"/>
            <a:ext cx="1508040" cy="14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H="1">
            <a:off x="3390840" y="3578400"/>
            <a:ext cx="1403280" cy="24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cultu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articles traitent différents sujets qui se rapportent aux arts, co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inéma (ici en DV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héâ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,ici, un aspect économique de ces suj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rubr_culture_monde"/>
          <p:cNvPicPr/>
          <p:nvPr/>
        </p:nvPicPr>
        <p:blipFill>
          <a:blip r:embed="rId1"/>
          <a:stretch/>
        </p:blipFill>
        <p:spPr>
          <a:xfrm>
            <a:off x="284040" y="318960"/>
            <a:ext cx="4191120" cy="6257880"/>
          </a:xfrm>
          <a:prstGeom prst="rect">
            <a:avLst/>
          </a:prstGeom>
          <a:ln w="0">
            <a:noFill/>
          </a:ln>
        </p:spPr>
      </p:pic>
      <p:sp>
        <p:nvSpPr>
          <p:cNvPr id="87" name="Line 12"/>
          <p:cNvSpPr/>
          <p:nvPr/>
        </p:nvSpPr>
        <p:spPr>
          <a:xfrm flipH="1" flipV="1">
            <a:off x="1635120" y="461520"/>
            <a:ext cx="3162240" cy="1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H="1" flipV="1">
            <a:off x="2414520" y="923760"/>
            <a:ext cx="2387520" cy="164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 flipH="1">
            <a:off x="1873080" y="2992320"/>
            <a:ext cx="2921040" cy="180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3081240" y="3427560"/>
            <a:ext cx="1712880" cy="7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 flipH="1" flipV="1">
            <a:off x="4181400" y="993240"/>
            <a:ext cx="6206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ci, la rubrique ne traite pas un thème, m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n nom vient d’une façon de traiter l’information : l’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enquêt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le journaliste va interviewer différentes personnes et raco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Ici, on trouve un tit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un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chapô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 (expliqué plus loin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et une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exergu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monde"/>
          <p:cNvPicPr/>
          <p:nvPr/>
        </p:nvPicPr>
        <p:blipFill>
          <a:blip r:embed="rId1"/>
          <a:stretch/>
        </p:blipFill>
        <p:spPr>
          <a:xfrm>
            <a:off x="352440" y="344520"/>
            <a:ext cx="4111560" cy="6202440"/>
          </a:xfrm>
          <a:prstGeom prst="rect">
            <a:avLst/>
          </a:prstGeom>
          <a:ln w="0">
            <a:noFill/>
          </a:ln>
        </p:spPr>
      </p:pic>
      <p:sp>
        <p:nvSpPr>
          <p:cNvPr id="94" name="Line 4"/>
          <p:cNvSpPr/>
          <p:nvPr/>
        </p:nvSpPr>
        <p:spPr>
          <a:xfrm flipH="1" flipV="1">
            <a:off x="1784520" y="496440"/>
            <a:ext cx="300960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H="1" flipV="1">
            <a:off x="3338280" y="3338280"/>
            <a:ext cx="14554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H="1" flipV="1">
            <a:off x="3311640" y="4483080"/>
            <a:ext cx="1482480" cy="10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2192400" y="5397480"/>
            <a:ext cx="257472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quence de rubriqu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météo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ux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Toujours de la publi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rubr_meteo_jeux_monde"/>
          <p:cNvPicPr/>
          <p:nvPr/>
        </p:nvPicPr>
        <p:blipFill>
          <a:blip r:embed="rId1"/>
          <a:stretch/>
        </p:blipFill>
        <p:spPr>
          <a:xfrm>
            <a:off x="339840" y="344520"/>
            <a:ext cx="4138560" cy="61578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 flipH="1" flipV="1">
            <a:off x="1331640" y="674280"/>
            <a:ext cx="3452760" cy="3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1509480" y="1482840"/>
            <a:ext cx="3292200" cy="216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3976200" y="2778120"/>
            <a:ext cx="825480" cy="260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4287960" y="2778120"/>
            <a:ext cx="51408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Voici quelques exemples de rubriques tirés du journal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Mé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7000"/>
            <a:ext cx="822960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un autre journal les rubriques n’ont pas forcément les mêmes n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n’y a </a:t>
            </a:r>
            <a:r>
              <a:rPr b="0" lang="fr-FR" sz="3200" spc="-1" strike="noStrike">
                <a:solidFill>
                  <a:srgbClr val="cc00cc"/>
                </a:solidFill>
                <a:latin typeface="Arial"/>
              </a:rPr>
              <a:t>pas 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cc00cc"/>
                </a:solidFill>
                <a:latin typeface="Arial"/>
              </a:rPr>
              <a:t>règ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obligatoires, mais des </a:t>
            </a:r>
            <a:r>
              <a:rPr b="0" lang="fr-FR" sz="3200" spc="-1" strike="noStrike">
                <a:solidFill>
                  <a:srgbClr val="cc00cc"/>
                </a:solidFill>
                <a:latin typeface="Arial"/>
              </a:rPr>
              <a:t>choix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faits par chaque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monde » (et non</a:t>
            </a:r>
            <a:r>
              <a:rPr b="0" lang="fr-FR" sz="2400" spc="-1" strike="noStrike" baseline="2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intern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Les titres d’articles sont souvent suivis d’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chapô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, qui complète le titre et permet au lecteur de savoir si l’article l’intéress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metro_rubr_monde"/>
          <p:cNvPicPr/>
          <p:nvPr/>
        </p:nvPicPr>
        <p:blipFill>
          <a:blip r:embed="rId1"/>
          <a:stretch/>
        </p:blipFill>
        <p:spPr>
          <a:xfrm>
            <a:off x="279360" y="565200"/>
            <a:ext cx="4280040" cy="5724360"/>
          </a:xfrm>
          <a:prstGeom prst="rect">
            <a:avLst/>
          </a:prstGeom>
          <a:ln w="0">
            <a:noFill/>
          </a:ln>
        </p:spPr>
      </p:pic>
      <p:sp>
        <p:nvSpPr>
          <p:cNvPr id="108" name="Line 8"/>
          <p:cNvSpPr/>
          <p:nvPr/>
        </p:nvSpPr>
        <p:spPr>
          <a:xfrm flipH="1">
            <a:off x="1287000" y="595440"/>
            <a:ext cx="350676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H="1" flipV="1">
            <a:off x="2752200" y="1774440"/>
            <a:ext cx="20415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H="1" flipV="1">
            <a:off x="2937960" y="1553760"/>
            <a:ext cx="1863720" cy="70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Fran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Métr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on trouve beaucoup de brèves, le journal est moins long, les articles moins développés que dan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 Mond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metro_rubr_france"/>
          <p:cNvPicPr/>
          <p:nvPr/>
        </p:nvPicPr>
        <p:blipFill>
          <a:blip r:embed="rId1"/>
          <a:stretch/>
        </p:blipFill>
        <p:spPr>
          <a:xfrm>
            <a:off x="293760" y="555480"/>
            <a:ext cx="4113000" cy="5705640"/>
          </a:xfrm>
          <a:prstGeom prst="rect">
            <a:avLst/>
          </a:prstGeom>
          <a:ln w="0">
            <a:noFill/>
          </a:ln>
        </p:spPr>
      </p:pic>
      <p:sp>
        <p:nvSpPr>
          <p:cNvPr id="113" name="Line 8"/>
          <p:cNvSpPr/>
          <p:nvPr/>
        </p:nvSpPr>
        <p:spPr>
          <a:xfrm flipH="1">
            <a:off x="1269720" y="595440"/>
            <a:ext cx="3514680" cy="36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 flipH="1" flipV="1">
            <a:off x="2883960" y="1136160"/>
            <a:ext cx="189252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H="1">
            <a:off x="763560" y="1465200"/>
            <a:ext cx="4030560" cy="30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interview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à encore ce n’est pas un thème (culture) qui est indiqué, mais une façon de traiter le suj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Les § se succèdent selon une alter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de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et de ré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etro_type_interview"/>
          <p:cNvPicPr/>
          <p:nvPr/>
        </p:nvPicPr>
        <p:blipFill>
          <a:blip r:embed="rId1"/>
          <a:stretch/>
        </p:blipFill>
        <p:spPr>
          <a:xfrm>
            <a:off x="277920" y="595440"/>
            <a:ext cx="4249800" cy="5651280"/>
          </a:xfrm>
          <a:prstGeom prst="rect">
            <a:avLst/>
          </a:prstGeom>
          <a:ln w="0">
            <a:noFill/>
          </a:ln>
        </p:spPr>
      </p:pic>
      <p:sp>
        <p:nvSpPr>
          <p:cNvPr id="118" name="Line 5"/>
          <p:cNvSpPr/>
          <p:nvPr/>
        </p:nvSpPr>
        <p:spPr>
          <a:xfrm flipH="1">
            <a:off x="2778120" y="585720"/>
            <a:ext cx="201600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H="1">
            <a:off x="4411440" y="3790800"/>
            <a:ext cx="347400" cy="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 flipH="1" flipV="1">
            <a:off x="4420800" y="4119480"/>
            <a:ext cx="3366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rubr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ermettent de classer les articles par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thèm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’est-à-dire par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types d’inform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 parfois par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façon de trait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’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rubriques de thèmes proches sont parfois rassemblées par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séquenc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un journal, les rubriques se succèdent dans un certain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ord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qui est choisi par le journal et toujours le mê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uccession des rubriques propre à un journal s’appelle le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chemin de f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différentes rubriques possibles sont par exemple :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internation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Fran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socié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économi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spor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cultu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types de traitement des articles sont par exemple :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analys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portrai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interview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reportag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commentair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différents types de traitement entraînent des façons de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rédig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présent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’article diffé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Voici quelques exemples de rubriques tirés du journal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Le Mo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7000"/>
            <a:ext cx="822960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cune d’entre elles, nous repèrerons les caractéristiqu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6699"/>
                </a:solidFill>
                <a:latin typeface="Arial"/>
              </a:rPr>
              <a:t>Nous repèrerons aussi les différentes caractéristiques des articles dans une page de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8320" y="250920"/>
            <a:ext cx="4038480" cy="62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international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actéristiqu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informations concernent des pays hors de l’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informations ont pour thème la politique des pays étrang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souvent la guer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rubr inter monde"/>
          <p:cNvPicPr/>
          <p:nvPr/>
        </p:nvPicPr>
        <p:blipFill>
          <a:blip r:embed="rId1"/>
          <a:stretch/>
        </p:blipFill>
        <p:spPr>
          <a:xfrm>
            <a:off x="306360" y="231840"/>
            <a:ext cx="4179960" cy="6324480"/>
          </a:xfrm>
          <a:prstGeom prst="rect">
            <a:avLst/>
          </a:prstGeom>
          <a:ln w="0">
            <a:noFill/>
          </a:ln>
        </p:spPr>
      </p:pic>
      <p:sp>
        <p:nvSpPr>
          <p:cNvPr id="49" name="Line 14"/>
          <p:cNvSpPr/>
          <p:nvPr/>
        </p:nvSpPr>
        <p:spPr>
          <a:xfrm flipH="1" flipV="1">
            <a:off x="1860480" y="398520"/>
            <a:ext cx="2936880" cy="1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 flipH="1" flipV="1">
            <a:off x="698400" y="666360"/>
            <a:ext cx="4098960" cy="70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 flipH="1">
            <a:off x="677520" y="1387440"/>
            <a:ext cx="4119480" cy="21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>
            <a:off x="3055680" y="1376280"/>
            <a:ext cx="1741320" cy="22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H="1" flipV="1">
            <a:off x="1720440" y="1216080"/>
            <a:ext cx="308772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4335120" y="3679560"/>
            <a:ext cx="45252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8320" y="298080"/>
            <a:ext cx="403848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Euro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actéristiqu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à aussi les thèmes sont souvent l’économ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 la politique, ici la guer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Un article est parfois illustré par une 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Une photo est toujours complétée par une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légend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 qui précise son suj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5" descr="rubr europe monde"/>
          <p:cNvPicPr/>
          <p:nvPr/>
        </p:nvPicPr>
        <p:blipFill>
          <a:blip r:embed="rId1"/>
          <a:stretch/>
        </p:blipFill>
        <p:spPr>
          <a:xfrm>
            <a:off x="318960" y="297000"/>
            <a:ext cx="4154760" cy="6202080"/>
          </a:xfrm>
          <a:prstGeom prst="rect">
            <a:avLst/>
          </a:prstGeom>
          <a:ln w="0">
            <a:noFill/>
          </a:ln>
        </p:spPr>
      </p:pic>
      <p:sp>
        <p:nvSpPr>
          <p:cNvPr id="57" name="Line 26"/>
          <p:cNvSpPr/>
          <p:nvPr/>
        </p:nvSpPr>
        <p:spPr>
          <a:xfrm flipH="1" flipV="1">
            <a:off x="1560600" y="495360"/>
            <a:ext cx="324792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 flipH="1" flipV="1">
            <a:off x="4130640" y="988560"/>
            <a:ext cx="65736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"/>
          <p:cNvSpPr/>
          <p:nvPr/>
        </p:nvSpPr>
        <p:spPr>
          <a:xfrm flipH="1" flipV="1">
            <a:off x="1646280" y="1096920"/>
            <a:ext cx="316224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9"/>
          <p:cNvSpPr/>
          <p:nvPr/>
        </p:nvSpPr>
        <p:spPr>
          <a:xfrm flipH="1" flipV="1">
            <a:off x="3452400" y="2333520"/>
            <a:ext cx="134460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0"/>
          <p:cNvSpPr/>
          <p:nvPr/>
        </p:nvSpPr>
        <p:spPr>
          <a:xfrm flipH="1" flipV="1">
            <a:off x="3215880" y="2526840"/>
            <a:ext cx="1592280" cy="173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économie &amp; entreprise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s’agit de parler du fonctionnement des grandes entreprises, des grands secteurs de l’économ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ci, le BTP (Bâtiments Travaux Publ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Pour compléter un article, on trouve souvent une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infographi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 (un schéma qui donne des inform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toujours la p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rubr éco&amp;entrepr monde2"/>
          <p:cNvPicPr/>
          <p:nvPr/>
        </p:nvPicPr>
        <p:blipFill>
          <a:blip r:embed="rId1"/>
          <a:stretch/>
        </p:blipFill>
        <p:spPr>
          <a:xfrm>
            <a:off x="298440" y="309600"/>
            <a:ext cx="4148280" cy="6235560"/>
          </a:xfrm>
          <a:prstGeom prst="rect">
            <a:avLst/>
          </a:prstGeom>
          <a:ln w="0">
            <a:noFill/>
          </a:ln>
        </p:spPr>
      </p:pic>
      <p:sp>
        <p:nvSpPr>
          <p:cNvPr id="64" name="Line 8"/>
          <p:cNvSpPr/>
          <p:nvPr/>
        </p:nvSpPr>
        <p:spPr>
          <a:xfrm flipH="1" flipV="1">
            <a:off x="2430000" y="461880"/>
            <a:ext cx="23670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 flipV="1">
            <a:off x="541080" y="773280"/>
            <a:ext cx="4243320" cy="25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 flipV="1">
            <a:off x="3755880" y="2112840"/>
            <a:ext cx="1038240" cy="241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H="1" flipV="1">
            <a:off x="2858760" y="5894280"/>
            <a:ext cx="1935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politique et société » (en Franc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ec parfois un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sous-tit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rubriq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i indique que tous les articles de la page ont le même th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rubr pol&amp;soc monde"/>
          <p:cNvPicPr/>
          <p:nvPr/>
        </p:nvPicPr>
        <p:blipFill>
          <a:blip r:embed="rId1"/>
          <a:stretch/>
        </p:blipFill>
        <p:spPr>
          <a:xfrm>
            <a:off x="318960" y="330120"/>
            <a:ext cx="4141800" cy="6215040"/>
          </a:xfrm>
          <a:prstGeom prst="rect">
            <a:avLst/>
          </a:prstGeom>
          <a:ln w="0">
            <a:noFill/>
          </a:ln>
        </p:spPr>
      </p:pic>
      <p:sp>
        <p:nvSpPr>
          <p:cNvPr id="70" name="Line 7"/>
          <p:cNvSpPr/>
          <p:nvPr/>
        </p:nvSpPr>
        <p:spPr>
          <a:xfrm flipH="1" flipV="1">
            <a:off x="2130480" y="539640"/>
            <a:ext cx="2666880" cy="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 flipV="1">
            <a:off x="3427560" y="488520"/>
            <a:ext cx="136656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politique et société » (en Franc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fois, ce sont des articles sur divers sujets dans le th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« fait divers » (crim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 la destruction d’un vieux porte-av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Pour mettre en valeur un passage, on le met en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exergu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Les articles courts qui relatent un fait sans commentaire sont des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brèves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rubr pol&amp;soc monde2"/>
          <p:cNvPicPr/>
          <p:nvPr/>
        </p:nvPicPr>
        <p:blipFill>
          <a:blip r:embed="rId1"/>
          <a:stretch/>
        </p:blipFill>
        <p:spPr>
          <a:xfrm>
            <a:off x="320760" y="309600"/>
            <a:ext cx="4140000" cy="6226200"/>
          </a:xfrm>
          <a:prstGeom prst="rect">
            <a:avLst/>
          </a:prstGeom>
          <a:ln w="0">
            <a:noFill/>
          </a:ln>
        </p:spPr>
      </p:pic>
      <p:sp>
        <p:nvSpPr>
          <p:cNvPr id="74" name="Line 7"/>
          <p:cNvSpPr/>
          <p:nvPr/>
        </p:nvSpPr>
        <p:spPr>
          <a:xfrm flipH="1" flipV="1">
            <a:off x="2119320" y="452520"/>
            <a:ext cx="26719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 flipV="1">
            <a:off x="4082760" y="798120"/>
            <a:ext cx="701640" cy="15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 flipH="1">
            <a:off x="4376520" y="2743200"/>
            <a:ext cx="4172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 flipV="1">
            <a:off x="3755880" y="2246040"/>
            <a:ext cx="1038240" cy="16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 flipV="1">
            <a:off x="2201400" y="4411440"/>
            <a:ext cx="259236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22:30:34Z</dcterms:created>
  <dc:creator>JP</dc:creator>
  <dc:description/>
  <dc:language>en-US</dc:language>
  <cp:lastModifiedBy>Usuario</cp:lastModifiedBy>
  <dcterms:modified xsi:type="dcterms:W3CDTF">2011-01-18T17:07:38Z</dcterms:modified>
  <cp:revision>7</cp:revision>
  <dc:subject/>
  <dc:title>Le contenu d’un journal :  les rubriques, les séquences, les types de traitement</dc:title>
</cp:coreProperties>
</file>